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70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96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70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96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70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96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70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96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4800" y="6337440"/>
            <a:ext cx="3713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EXPReS kickoff, Zaandam, October 2006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1080" cy="70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1368360" cy="73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4800" y="6362640"/>
            <a:ext cx="28828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EVN Symposium 2004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28080" y="314280"/>
            <a:ext cx="1368360" cy="735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774800"/>
            <a:ext cx="99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Times New Roman"/>
              </a:rPr>
              <a:t>SA1: overview, fir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95360" y="4241880"/>
            <a:ext cx="36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rpad Szom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e-VLBI control interface</a:t>
            </a:r>
            <a:br>
              <a:rPr sz="4400"/>
            </a:b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7200" y="2535120"/>
            <a:ext cx="839304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Interface to station Mk5s</a:t>
            </a:r>
            <a:br>
              <a:rPr sz="4400"/>
            </a:b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55520" y="1930320"/>
            <a:ext cx="77328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4680" y="5392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Integrating fringe display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73280" y="1674720"/>
            <a:ext cx="6227640" cy="46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8760" y="1774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Data status monitor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00" y="1371600"/>
            <a:ext cx="5877000" cy="470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40200" y="1689120"/>
            <a:ext cx="5803920" cy="46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3000" y="3776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Streamlining of post processing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97040" y="2016000"/>
            <a:ext cx="834372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235080"/>
            <a:ext cx="802332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Web-based Post-processing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25640" y="1208160"/>
            <a:ext cx="684684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329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c0128"/>
                </a:solidFill>
                <a:latin typeface="Times New Roman"/>
              </a:rPr>
              <a:t>Next steps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760" y="1498680"/>
            <a:ext cx="7756560" cy="42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 thorough evaluation of timeline/types of deliverables (before end of year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crease of guaranteed bandwidth to 51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SI-e (Mark5B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DP based protocols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ome-grown TCP mods (Mark5A code dependency..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ightpaths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stablishment of e-VLBI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rt of design of e-MERLIN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2880" y="544320"/>
            <a:ext cx="900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c0128"/>
                </a:solidFill>
                <a:latin typeface="Times New Roman"/>
              </a:rPr>
              <a:t>Future network/hardware upgrades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5760" y="1947960"/>
            <a:ext cx="7756560" cy="42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nection of Shangai Observatory via lightpath to JIVE (end 2006/beginning 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rrelation of data from Australian telescopes in real-time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ffelsberg online (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stablishment of lightpaths across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pgrade of network equipment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hasing out of ageing Statio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pgrade of Mark5 hardware across EV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9640" y="329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c0128"/>
                </a:solidFill>
                <a:latin typeface="Times New Roman"/>
              </a:rPr>
              <a:t>..and software developments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5760" y="1947960"/>
            <a:ext cx="7756560" cy="42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ools for monitoring of data quality, telescope status, network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 tools to supply this monitoring information to the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ar real-time pipelining for rapi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daptive scheduling of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Outline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760" y="2863800"/>
            <a:ext cx="7756560" cy="29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w h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urrent st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PReS: fir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9760" y="4456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c0128"/>
                </a:solidFill>
                <a:latin typeface="Times New Roman"/>
              </a:rPr>
              <a:t>SA1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2760" y="2863800"/>
            <a:ext cx="7756560" cy="35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ing the real-time operational efficiency of the 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ing data transport issues (e.g. protocols, use of light pa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target-of-opportunity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real-time monitoring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ing the correlator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mlessly incorporating e-MERLIN telescopes (UK) in the EVN array (through VSI interfa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0280" y="1768320"/>
            <a:ext cx="8682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ims at establishing a real-time production e-VLBI facility,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connecting up to 16 telescopes simultaneously at 1 Gbps to the EVN correlator at JIVE.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The work packages of this service activity will concentrate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3800" y="1281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c0128"/>
                </a:solidFill>
                <a:latin typeface="Times New Roman"/>
              </a:rPr>
              <a:t>New hires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6160" y="1160640"/>
            <a:ext cx="9219960" cy="21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PReS support scientist (Zsolt Paragi, 1/3/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wo scientific software engineers (Bob Eldering, 1/5/6, Des Small, 12/6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twork engineer/Linux specialist (Paul Boven, 1/12/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lectronical engineer @ Jodrell Bank (Jonathan Hargreaves, 1/12/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7200" y="3301920"/>
            <a:ext cx="3743280" cy="2809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3080" y="3568680"/>
            <a:ext cx="3936960" cy="2787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567400" y="3808440"/>
            <a:ext cx="3730680" cy="27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c0128"/>
                </a:solidFill>
                <a:latin typeface="Times New Roman"/>
              </a:rPr>
              <a:t>SA1 Workpackages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760" y="2567160"/>
            <a:ext cx="7756560" cy="32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Operational improvements for e-VL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Data transmission develop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Target of opportunity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Real-time monitoring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Data processor 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Addition of e-MERLIN 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Tests and demons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c0128"/>
                </a:solidFill>
                <a:latin typeface="Times New Roman"/>
              </a:rPr>
              <a:t>Practical constraints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760" y="2567160"/>
            <a:ext cx="7756560" cy="32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lays in hiring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vailability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velopment of e-M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counters with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ighly complex system: learning curve of new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ther external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329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c0128"/>
                </a:solidFill>
                <a:latin typeface="Times New Roman"/>
              </a:rPr>
              <a:t>Current status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760" y="1498680"/>
            <a:ext cx="7756560" cy="42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actically on schedule  (as regards deliverables) thanks to additional efforts of regular JIVE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..although not necessarily in right orde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utine’ science e-VLBI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ase of operation through new software modules, increased robustness through new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urrent capa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-station fringes at 256 Mbps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irst European 512 Mbps fringes (Jb and Wb, May 18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-station 512 Mbps fringes (Cm, Wb, On, August 21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1400" y="507960"/>
            <a:ext cx="4246560" cy="5870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7120" y="474840"/>
            <a:ext cx="4176720" cy="59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3440" y="4395960"/>
            <a:ext cx="1843200" cy="142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4720" y="490680"/>
            <a:ext cx="144432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-8566200" y="338040"/>
            <a:ext cx="56134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386160" y="584280"/>
            <a:ext cx="1432080" cy="129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448240" y="923760"/>
            <a:ext cx="1392120" cy="132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502320" y="1727280"/>
            <a:ext cx="1344600" cy="126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643120" y="1785960"/>
            <a:ext cx="1332000" cy="136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1762200" y="2674800"/>
            <a:ext cx="1006560" cy="12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7596360" y="4206960"/>
            <a:ext cx="1885680" cy="1257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5127480" y="5213520"/>
            <a:ext cx="1809720" cy="13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2165400" y="5025960"/>
            <a:ext cx="1927080" cy="1535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66640" y="587844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155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91440" y="548316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86640" y="6148440"/>
            <a:ext cx="17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2.5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44920" y="279576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1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7711920" y="2505240"/>
            <a:ext cx="1371600" cy="132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7097760" y="4973760"/>
            <a:ext cx="1697040" cy="144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6070680" y="3633840"/>
            <a:ext cx="1539720" cy="15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8:22:56Z</dcterms:created>
  <dc:creator>parsley</dc:creator>
  <dc:description/>
  <dc:language>en-US</dc:language>
  <cp:lastModifiedBy>System Management</cp:lastModifiedBy>
  <cp:lastPrinted>2001-03-09T11:05:18Z</cp:lastPrinted>
  <dcterms:modified xsi:type="dcterms:W3CDTF">2006-10-29T14:54:49Z</dcterms:modified>
  <cp:revision>256</cp:revision>
  <dc:subject/>
  <dc:title>eVLBI Progress</dc:title>
</cp:coreProperties>
</file>